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A24-43A9-4785-90EB-EB2095EE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079-5D53-45C3-B5CC-F57CE02B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F44-DCE0-4E42-9302-0821BFBE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467-357F-4199-95D1-0068B6DD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B7E-13CA-48E3-8B08-25ACD229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F2A-1952-4570-9F17-6C19CF32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23B-08B0-4938-9107-577FF3CC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758-72A2-440D-8D33-AE859D21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E0A-0CFD-409E-9371-D294CBCE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2F8-6E24-4AC5-97A2-3E06381E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A49-4B13-4FEE-84A9-8E9B87F9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2C3-E461-4ECF-A45C-08908056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82A2-FC8C-4BCE-9F29-ED2A3A02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lution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olu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bject goes around anoth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bi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of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revolution = 1 year = 365.2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p-yea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every four years; an extra day is added to the calendar (Feb 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th REVOLVES aroun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mmer, the northern hemisphere is farthest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83892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arth-tilt"/>
          <p:cNvPicPr/>
          <p:nvPr/>
        </p:nvPicPr>
        <p:blipFill>
          <a:blip r:embed="rId1"/>
          <a:srcRect l="2351" t="0" r="0" b="0"/>
          <a:stretch/>
        </p:blipFill>
        <p:spPr>
          <a:xfrm>
            <a:off x="0" y="0"/>
            <a:ext cx="6324480" cy="5143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1812" t="7181" r="4983" b="10582"/>
          <a:stretch/>
        </p:blipFill>
        <p:spPr>
          <a:xfrm>
            <a:off x="4495680" y="4114800"/>
            <a:ext cx="4496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8:11:56Z</dcterms:created>
  <dc:creator>skrial</dc:creator>
  <dc:description/>
  <dc:language>en-US</dc:language>
  <cp:lastModifiedBy>Sherry Miers</cp:lastModifiedBy>
  <dcterms:modified xsi:type="dcterms:W3CDTF">2010-09-19T22:48:52Z</dcterms:modified>
  <cp:revision>5</cp:revision>
  <dc:subject/>
  <dc:title>Revolution Notes 10/2</dc:title>
</cp:coreProperties>
</file>